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1B0B9-A296-4E95-A98B-73010A43A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8C346-9403-496D-A4BF-D626E35C3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C8AB2-B354-4141-81C3-A5184B365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CC3FE-7EFD-48CA-9801-961DED13B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22C2A-A587-4EF7-A96D-651D1FADB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8EF53-47D1-4E17-86A9-D1BB7891C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C82D9-BCFC-48B2-936B-96FCFF147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D4882-45B6-46B1-ABB0-7B8737986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D5278-898C-486F-9957-CA4CC27D6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F8004-A80D-4048-8B0F-C42F5F326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D62F3-BF07-48BA-9721-F1D6708D7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BB569-2CB0-42D0-8DC2-B293E9BBD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3FA6F-B17B-4099-89B3-4301732E8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CD319-BCC4-457C-87EF-4D5ADA583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A15BC-21C6-4715-B222-BC3834D1A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2831D-F1F5-4A47-986F-BF93AC9C7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141DD-975D-4215-90C8-488B28F7A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BBA5B-201C-4136-A6A3-80C4A4BFA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2D563-B995-4FDA-8AB8-B32EF2526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A2A08-C8C0-4C58-9BF2-F0FF1A7AD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4285A-A9FB-4B60-A434-522A47519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77EA1-1CC9-4853-AEA0-C2895DF4B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BA58B-650C-46FB-8264-0B818C890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D5123-2E23-4AB8-AA45-0498B244B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27FBA-EB33-475B-AD57-0AE0DC197DEB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2C48A-5A7E-4EE6-BBF8-0C5CA2AED5AB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324000" y="1447200"/>
            <a:ext cx="9577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148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(Пр. 272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Пустиня е душа без идеал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ъгрян от любовта;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едничка нея благий Бог създал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 бъде фар в свет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252360" y="2418480"/>
            <a:ext cx="9648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Едничка тя е мощна да възпре издигнатия меч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в мир злочестий свят да събере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ъс свойта блага реч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-36360" y="2436120"/>
            <a:ext cx="9216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3. Издига тя душа ни да лети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към тихи небеса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ъй както лъчът дига в висоти сребристата роса.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-36360" y="1826640"/>
            <a:ext cx="9216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4. В световний мрак гори без жертвен дим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едничък нейний плам;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кат' тайнствен факел, жив, неугасим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я свети в наший храм.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-36360" y="2436120"/>
            <a:ext cx="9216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5. Едничка тя не тъпче със пета превита, слаба тръст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носи с тиха прошка на уста Голготский тежък кръст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5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09-09-05T15:00:33Z</dcterms:modified>
  <cp:revision>78</cp:revision>
  <dc:subject/>
  <dc:title>Slide 1</dc:title>
</cp:coreProperties>
</file>